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88F7-B464-4A78-A63F-F9D58010E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3D78-EFDE-41F7-92F3-FB0A8B2FD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6EA5-53AD-465D-BBC8-15A1078E1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B612-2413-4F42-901B-6DACEBCAD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0CDC-36E5-40E6-B34E-776541704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B923-8FC5-426C-98D9-9128A6DBD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9F9F-2565-4CA1-AFC8-D132DD689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0EDB-08FC-409E-925D-283154F21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CF1C-9688-4D37-931F-CDB2D2ECB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4A8F-FE88-4CF3-B726-F6E96B40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0E7A-3CAC-4A74-B826-CEBC7D31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8CF4-5C71-431E-8CAA-3D75768A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1CB0D-6AF2-4C6F-BDDA-15F68C4F7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46116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4518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53146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404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6584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084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46116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46116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4518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53146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404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6584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084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46116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4518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53146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4518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404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6584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084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164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53146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404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6584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084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9T00:43:56Z</dcterms:created>
  <dc:creator>Lauren Lee</dc:creator>
  <dc:description/>
  <dc:language>en-US</dc:language>
  <cp:lastModifiedBy>Lauren Lee</cp:lastModifiedBy>
  <dcterms:modified xsi:type="dcterms:W3CDTF">2008-12-09T00:49:29Z</dcterms:modified>
  <cp:revision>2</cp:revision>
  <dc:subject/>
  <dc:title>PowerPoint Presentation</dc:title>
</cp:coreProperties>
</file>